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C44-A492-47D4-B59F-843D0B80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C63-4FC8-41B7-BAA7-2DD13AED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90744-8EBB-4BBF-B301-513484A4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BF302-3F0B-4407-97F9-DA61CE53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52C60-6E2D-4CC9-ABD0-7DFE8285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FCB1A-900D-4366-BECE-78AF12C1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8CD29-B21D-4372-92BE-515E0B9B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61457-80A6-4468-977C-EDA40724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26CA9-61E0-481B-A5A3-570F4C80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0BC66-19AE-4887-B15B-8EA3333E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638FE-27EF-4439-BDE4-400F8B51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C2DED-55EF-4A79-9A3F-05BF8F54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BCFE-8931-4D13-977B-76E9BB36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61317-A8E7-4909-A499-9D6B2197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C3A00-7B78-4A36-A4B7-F995CE94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825AE-B27D-47A2-9009-C20E4347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E385E-4900-4FDD-B100-EE9AA603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3E9B2-E99B-47BA-BED1-02C520D0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80E13-6F5F-4E50-B2B0-4E14F388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2F67E-30BF-4B0B-93FE-77B6AB4F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7C7CB-2FAA-4165-9EB2-0A0AE31C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96C8A-EDF8-490D-A008-F913E6B9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E933C-C10C-40EF-8CAB-C1BD29F7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9C3-91BD-44AD-8A9C-80728649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E3FDC-0041-45A0-8311-F19683D2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61612-4B79-455C-BA1A-FFE28FDF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CA91F-2ECE-44D7-A593-3AF0C14A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685A1-E378-40A3-8129-9DBBB1A7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13B98-8DA6-4F57-A989-5A706D08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71DC1-C3FF-4844-A19A-DD6E5CA6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5D06E-3382-4920-806C-C3A4B384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5D6E3-8487-4C3E-956B-DE96958E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16CA0-D4FC-459E-A632-342268B6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E5C20-C76A-47B1-A42F-C82A3561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52D4-7AE0-41E0-99CE-E8B44E15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A95AF-8C4A-452C-B640-D2117474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4C3B7-E6D8-4E5F-9F1C-108A856E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DA04E-349B-475E-BE0B-BFAC89AD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9A389-14C5-4078-B456-E56B10F5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CA3D0-7F43-4640-8E1A-0727A8EC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F7F5C-89C7-4A7D-A83E-E5FFDB7F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C2DC3-3D25-40C2-A9CA-E4F7011D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A2A2F-BCFC-456F-BD6D-0B703A7F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CF639-A656-4054-9ACB-55D73422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9B775-F4E4-487C-82DC-6B09CFCB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6580-54A6-4221-A290-DCE7D4A4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29613-4104-42A4-A0B5-52C7D306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0D3E9-C96B-41B0-AC25-A14136FF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846D6-6434-40A0-BF3F-72136C3B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4A2A6-E4B9-4AD5-835E-C0C156DA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6A83A-431F-40F1-B979-5A1D7994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2F58E-6DB4-418C-8390-E8EBA724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79340-AE56-4724-8AD7-55464E88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DF9AB-DC31-494A-8B6A-9A9DEAB9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ACCE0-A226-4E14-A7BD-FC7FB723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094B1E-5F8E-42CF-98FC-1C43C5F7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3CC5-31B3-4A9B-BC5D-126D6FEC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4D9893-585C-4F64-8EFD-92FB5A18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ABE00-9B8B-40CD-B93D-0CD61CB4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FD598-45F7-4D6D-9353-6F286CA2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E3DD7-868A-4CD5-99E6-5197D6FE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EAD2D8-1882-4337-B2C8-8C66FCAE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6AB2F-E8EA-40B2-9390-41DD529F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4E8A1-B569-490E-AD19-6723DB8F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30DB0-BD7C-4784-8D57-4AC64DDA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CB75E-D28C-4B73-94C9-3C193729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18A11-B0D2-4C69-977E-79C62B6A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6E2A-7006-48D0-8E5F-1549E043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A4E2B2-D257-4B68-9949-97AE1AB2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15190-9822-4455-B9A9-07C68942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1034B-6E5A-4A16-A7F7-C3EF04CA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DE8DC-D733-4174-AE03-FAD11BFC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166FF-0EAF-45A3-AAE8-0860D0F3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AC3C63-3517-464E-BA7F-C4511144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779367-9A49-43A1-8F02-0C54516E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2C0BB-91DB-48E3-BF4F-819F6675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1387A-A169-48DE-B39F-2123FD6C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DEDD7-DBB4-4B0F-80C1-24378982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5A7E-BB9C-4359-BC95-19353179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3F2FD8-A9F1-46FF-8C50-0E883C33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50E64C-BEDE-4D3F-AA99-86EA1C32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45AB0-FF62-45FD-9B8D-46CE4EF4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051CFE-6A83-4CA1-99CD-BF2859EC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6C583E-2A2F-456B-BB2A-83C3DAB8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D017CC-D18E-4EC0-A9CC-13E5BCC2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0EDC2-F55D-4254-8EBF-A54A3BF7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2A1001-4DC5-4837-A03F-E9D8F953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1448F-29C7-4717-9191-A862D0BE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32BBEB-5EED-41A1-B332-B73BF221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B5B6-0420-4135-9BD4-26D0F280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336538-7040-4A9D-909E-D6E4CA40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284B93-2C62-4607-8CB7-0172FA6D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799E8B-F651-4D9F-9556-6EE16B29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E2C303-D7B9-4924-9F32-8DF45348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F5B90-E428-42FB-A03C-85168EDB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60A388-1AA8-4C4C-90AB-F86F5415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F31987-F1E2-4CB5-9FFF-227EBAAA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B31C5C-85EA-4FD3-9A41-BF0D350C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6E5C01-61E1-4F61-9EA3-B203828B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989B8F-52E6-45BA-8460-6306ED2D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432F-7AAC-4512-9F90-32DF8FDE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EF8AB2-5C5C-449F-817A-B70553CD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2DC765-FF5C-46E3-93FF-720CC6AD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039FB9-470B-4785-98FF-676437D8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90FC18-D5B7-48C9-91EC-B495286A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D7887E-76C5-4355-A616-55B8A827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C6D7F6-2927-40C1-8A17-8501A8E1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0E1E6-52C8-4F01-926F-E21357D7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D4662-24CB-44AA-8820-82E4C2E5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C22092-7A91-4F8C-B9B7-731E7C77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DBA352-B7F9-40EF-AC8A-849B0B4D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7D0-0AA2-4E90-9FB2-8B8D3D44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781C-03A2-4C8B-BE56-4802E07B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C6CE74-F219-434C-A16F-C91CF7B0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F68E2C-48D1-4577-807F-F315DD9B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688157-87C9-4DEC-944D-EA2262B7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EA8707-368D-4060-9FAF-A90CC8CD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A83BDA-39A6-48C4-9A32-32641627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E71DA0-BF10-46C3-AE79-4EDC2AF2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04EBCB-CB11-4587-AD2E-45BBE5D4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B1818D-1180-4599-86D5-B8AAB945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D45165-88BC-4021-A841-53F4B9E0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90D9C3-54E2-45A9-8829-C8A89834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F76F-7BAA-4FFD-8A93-3E064BAD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049730-5081-40CB-8F0F-5EDAE844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ED2060-ECD8-490C-8222-F09D9AD0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492C2D-0373-49BE-9D00-08400CEF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7C76C4-8BA5-47F6-9008-F343C0CD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77AEA0-963C-4D5F-8EE6-BECCF52C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7E3CC0-2CEC-48CE-8DE4-8593E705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42E8BC-92A7-4223-8EED-5FDF6E84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252D2B-6AF0-4891-B1D7-9F730040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4777DF-3C97-4E8A-BB3B-E6DDED3F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D805E7-1C16-4070-82D1-95842396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F770-424D-468B-9F4B-7A80BDB4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7AF787-DB54-4E71-A12F-881F783F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00F095-F759-4256-AD24-89EAFBFC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1189D0-1611-46FF-9A90-4AD7CFEB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E167B6-512F-4E41-BC99-B103B344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331EAB-3EEF-4F7E-88C5-3E3A48EB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605CCD-AE42-4F07-827F-7DFB8913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4B7DD7-FE9B-42EF-8FDE-F391F952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A8F202-0D5F-4EB4-A88A-47F4719E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27D739-F661-4425-B701-7ED3F9F3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731447-E161-48EF-928D-9CCB8E69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CE22-2D28-4475-989B-2704990F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D69879-EFBB-4C34-AEF8-247B5E1F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224EAE-68BC-498B-A929-13D8A731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D6C712-58F3-4EF8-9D01-02977AC9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3FB4AF-757A-4811-975E-99DA3A0F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2895AC-9713-45EF-99E9-E322B2B9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4A42F0-813F-446F-8FCC-1E0C6AF0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7FFDA9-C3E1-4E6D-B356-7D634074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29208D-5B73-4018-BC39-BBE5E43F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A48AB6-02F5-4A44-98DF-55A091AD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90781F-861C-4245-B741-265F9C1F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BABD-8E26-4A1F-A349-044029D9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6C3811-4D90-4CBD-B143-AA6B0123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78B607-A158-4CEA-80CE-0E978FF6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3F9078-8DEB-4FA2-961B-59F03C7C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A331F3-70BA-4830-AE21-8E87C0BE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FEDF34-6F9D-4939-A458-85966E81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2F1F40-36E0-4CC2-9161-0C0B5ACC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6BDF3F-DE5C-4637-9ADA-71284C08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4AB093-C255-4E19-824D-85CF1E35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E7C28B-5F3B-4222-B7AE-C1BAD3A4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22AFE5-B943-47EE-B1E5-878A7779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A0696-0151-4EFB-8C6C-BF085957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AF836A-DD01-4A57-968F-11D89033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0AD959-2372-44AD-830F-B2405E30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A1FC6E-C64E-462E-BD6E-B230D580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294C-F849-4F6A-BBDD-E9EE856F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071A0-D17D-4F36-9D05-1B04BE6C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C7B68-4A15-4769-BF1A-4C8C0E6F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16642-0B47-4B96-8C48-0DCC4B41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ACFC-883C-4DCC-922B-B446A0D4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BF5D0-B562-4CE0-B803-15AA827A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3D73C-3280-4FB6-9361-3D65BB5D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94581-4905-4083-8047-65E211E7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3447A-FBFB-4ED3-8386-2F60C040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1107F-BB50-4DDC-A83A-1219EB3B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FB17-9FD8-4F74-9048-53795A45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D7A11-32B5-4029-8E12-4C682740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F7A74-A663-4125-9179-90D7DF87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8FDFD-AEFC-482F-9D6E-264F0492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221A2-4746-419B-9193-0D295633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84E-2693-4C24-AE3D-61BA9170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0BEB1-AF54-405D-9CF0-4ABCE7E3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B58DD-8768-48C1-870C-34F890A8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E4065-60D5-4654-A046-39FEA757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68A4B-4A10-46C8-AE4D-3C0B0DE9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93ED4-100C-4956-8591-8653F81E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3F193-79A6-4E2D-A886-0DD9C958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A6D1D-C4A5-4E03-A8FD-E364EA6B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0C452-E8C5-4220-AEAC-01E74BFD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2EA6E-447C-415C-A6F8-7DFAF1F2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8C066-1B07-4A5E-96E2-A5937FC2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E79-10DB-4CF0-A65E-8B5B8AEF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4536A-4F6A-42D9-B365-BE63E24C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34161-FDBC-42B1-A0A0-6D5A7C64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FA924-3D21-4E93-8A79-5474A0A2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DE764-A835-409A-870A-E2E90BFF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913DF-A779-4F1C-9BB2-C8D076A5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CD1B8-CB28-4E46-AD31-D7671136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6428E-2CCA-43E7-A3E5-7CE874F8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6BE7F-4AA6-43C5-A98A-DE191624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FA4BD-CD50-4FA2-99B2-704747A3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A2271-D92D-49FA-B10E-7D3432E8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3C29-3957-40BA-A5E8-2FA03A5C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E24A0-D835-454E-974E-13028E12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96D66-6369-4B1E-A007-23CBAE5F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96AB4-4393-474A-92B0-7D7A510F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4F16B-0712-457D-8AB4-AE479624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EA568-5C07-4ED0-B264-DA936AE3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CA9ED-95FF-4839-BFF4-2C76B172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A454D-C137-4B74-BCA5-B17DCF72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FFDB7-C594-4CFE-82BC-AB7D66B9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F58FF-A260-4F3A-ADFF-F3E207BF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4E715-93E6-4A64-AE29-A060ED96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C0F-EB48-4CE8-AB9F-10D762AF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89E14-DAC8-438E-9245-90D38E26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7DF2C-F682-4D89-8B4C-57669539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F1C33-7AD6-4C8A-B216-7FF5BDD3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FA4B7-9177-4937-B56D-EC54909F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30AAE-149C-4926-99CB-245DBCD9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A6469-A364-4FFF-B9B1-0676B794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21028-DBC9-4651-AB4C-AEA14920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43F61-431E-4044-BF43-32F882C8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42719-A5AA-4A2A-BEC3-42DAE047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F8936-620F-4EC2-8F25-E009B281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30C-8687-4F3E-B822-84BD3632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6905F-4CC9-4DA6-B927-A3DA3DC0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C9EEF-24D4-4B4A-8AF5-21F866B2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2C5C6-FE9A-4E29-80D2-525527A9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513FE-B22D-428B-95A9-9B146140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F0F04-26B6-46CE-82A6-2CF50C0C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0718B-77FB-48E7-B4A3-4A96D180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DCF37-B7D7-49E9-8D5C-439FC56C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3D38B-BC08-4CB8-ADCB-8568E1B6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20F01-1AA4-44CF-A426-1C385CD6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29D3C-FB79-4D60-A80A-1FD97E56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7C5-6644-4377-92BB-4DE80CAA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BDEF9-CB12-4D01-ADCC-60FD27AD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14CCF-BE0C-46C1-94ED-53175D60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91FB9-0A17-465D-AA0F-5A96BA81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0A943-CB5E-4A7E-9F88-89F2EE05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03837-1A90-45CA-AF91-89C09E97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2CA7A-7B72-49DF-A416-D903F2AB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61091-FB6C-4BDD-8E4C-0FF4D7C2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8AD3F-2786-4ADC-8081-4677E410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7AC80-81BB-42EC-A4C9-695481E9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16B9E-0533-4B11-9F4C-42F429BF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6547-AB5C-4F32-8011-BA837C8AE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CA42-2EC8-4A48-9FCE-D938803653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69A5-E1A8-49E4-81CF-151C42BEAE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836A-666B-44F2-AAD0-CF499A90A7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32A3-4E0C-4DF1-94A0-60C72D0D93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F141-A5BE-497E-827C-B899DFC007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8E1A-52DB-4866-96A7-64D19C8BF0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F117-1659-4FA8-8AE2-6F8EBD5F04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AC61-9F8E-4E6E-BBDA-638746D227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E94D-DA72-47D1-AB16-CCA1DDABE3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DDA3-F5F2-4010-A0F0-0D01F1C6A4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010C-77E6-4BDC-833C-8FD5FD2149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8849-0006-43A4-9F0D-1D6C36A95B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EE16-1844-4936-BB0A-19E48D329A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72EB-70CC-4564-B4E9-9B3E4687F0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FA83-6218-47E4-915B-8F26B2AE2E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1E51-BA60-448E-A148-4D42A3DC9D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EFA4-92DF-494C-8A77-1198179F66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02FC-CA19-45FF-B60A-E94CEFD5D8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144E-9E8B-45A0-B792-244AB1495F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5B72-13B7-4FE9-808D-4B72D41A92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7945-BA1D-4E40-A10A-E48D3C85B3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B17A-69DF-47EC-82BA-D043FC4847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52F3-70B6-4EB3-B74A-5A59EB49A8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A0B5-0995-4DF8-98C5-A067140E5D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B023-1F72-434D-B746-263C5A7013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9D02-EF2D-4EFD-9F04-06416C9CDD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689B-D442-453C-B590-DC09BBA6B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2612-5BEB-4BD4-B74C-2235B94777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3A8B-2E8B-4E82-8AB8-8B33810081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D003-C15E-49DF-9129-9220BFBD48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B9C2-094A-4891-A74A-82AD668C10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C264-3878-4529-8B4F-31769BF8E9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4DB4-92E3-4347-9D78-DF369F37BE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F42D-B7B3-409E-9A6D-2F34992E88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CCC6-39A7-469A-ADC1-1C266913DE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D04E-7019-4D9C-90E6-1DEA4878DD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0A53-3FE6-4040-B681-6123938F08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6496-EE4A-4A00-B68A-DFE3B804C3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43C8-5ECC-4FBE-9AE1-90BB903024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076400" y="3138480"/>
            <a:ext cx="69912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182080" cy="614376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928800" y="235728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928800" y="507204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29600" cy="614376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857160" y="78588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857160" y="214308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4"/>
          <p:cNvSpPr/>
          <p:nvPr/>
        </p:nvSpPr>
        <p:spPr>
          <a:xfrm>
            <a:off x="857160" y="400068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561960" y="1357200"/>
            <a:ext cx="8020080" cy="414360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5715000" y="1928880"/>
            <a:ext cx="92880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4"/>
          <p:cNvSpPr/>
          <p:nvPr/>
        </p:nvSpPr>
        <p:spPr>
          <a:xfrm>
            <a:off x="2000160" y="2357280"/>
            <a:ext cx="1143000" cy="311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5"/>
          <p:cNvSpPr/>
          <p:nvPr/>
        </p:nvSpPr>
        <p:spPr>
          <a:xfrm>
            <a:off x="2500200" y="2857680"/>
            <a:ext cx="100008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6"/>
          <p:cNvSpPr/>
          <p:nvPr/>
        </p:nvSpPr>
        <p:spPr>
          <a:xfrm>
            <a:off x="4363920" y="3784680"/>
            <a:ext cx="92880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7"/>
          <p:cNvSpPr/>
          <p:nvPr/>
        </p:nvSpPr>
        <p:spPr>
          <a:xfrm>
            <a:off x="1743120" y="4665600"/>
            <a:ext cx="1685880" cy="363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509760" y="923760"/>
            <a:ext cx="8124480" cy="5010480"/>
          </a:xfrm>
          <a:prstGeom prst="rect">
            <a:avLst/>
          </a:prstGeom>
          <a:ln w="0">
            <a:noFill/>
          </a:ln>
        </p:spPr>
      </p:pic>
      <p:sp>
        <p:nvSpPr>
          <p:cNvPr id="1037" name="矩形 2"/>
          <p:cNvSpPr/>
          <p:nvPr/>
        </p:nvSpPr>
        <p:spPr>
          <a:xfrm>
            <a:off x="3000240" y="2857680"/>
            <a:ext cx="71460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3"/>
          <p:cNvSpPr/>
          <p:nvPr/>
        </p:nvSpPr>
        <p:spPr>
          <a:xfrm>
            <a:off x="4243320" y="2851200"/>
            <a:ext cx="785880" cy="312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4"/>
          <p:cNvSpPr/>
          <p:nvPr/>
        </p:nvSpPr>
        <p:spPr>
          <a:xfrm>
            <a:off x="928800" y="3286080"/>
            <a:ext cx="78588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5"/>
          <p:cNvSpPr/>
          <p:nvPr/>
        </p:nvSpPr>
        <p:spPr>
          <a:xfrm>
            <a:off x="3357720" y="4214880"/>
            <a:ext cx="114300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6"/>
          <p:cNvSpPr/>
          <p:nvPr/>
        </p:nvSpPr>
        <p:spPr>
          <a:xfrm>
            <a:off x="6429240" y="4214880"/>
            <a:ext cx="92880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7"/>
          <p:cNvSpPr/>
          <p:nvPr/>
        </p:nvSpPr>
        <p:spPr>
          <a:xfrm>
            <a:off x="4000680" y="5143680"/>
            <a:ext cx="114300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8"/>
          <p:cNvSpPr/>
          <p:nvPr/>
        </p:nvSpPr>
        <p:spPr>
          <a:xfrm>
            <a:off x="5643720" y="5143680"/>
            <a:ext cx="71424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500040" y="2066760"/>
            <a:ext cx="8143920" cy="2724480"/>
          </a:xfrm>
          <a:prstGeom prst="rect">
            <a:avLst/>
          </a:prstGeom>
          <a:ln w="0">
            <a:noFill/>
          </a:ln>
        </p:spPr>
      </p:pic>
      <p:sp>
        <p:nvSpPr>
          <p:cNvPr id="1045" name="矩形 2"/>
          <p:cNvSpPr/>
          <p:nvPr/>
        </p:nvSpPr>
        <p:spPr>
          <a:xfrm>
            <a:off x="5500800" y="2643120"/>
            <a:ext cx="92844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3"/>
          <p:cNvSpPr/>
          <p:nvPr/>
        </p:nvSpPr>
        <p:spPr>
          <a:xfrm>
            <a:off x="6715080" y="2643120"/>
            <a:ext cx="92880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4"/>
          <p:cNvSpPr/>
          <p:nvPr/>
        </p:nvSpPr>
        <p:spPr>
          <a:xfrm>
            <a:off x="3929040" y="4000680"/>
            <a:ext cx="128592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5"/>
          <p:cNvSpPr/>
          <p:nvPr/>
        </p:nvSpPr>
        <p:spPr>
          <a:xfrm>
            <a:off x="5643720" y="4000680"/>
            <a:ext cx="92844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6"/>
          <p:cNvSpPr/>
          <p:nvPr/>
        </p:nvSpPr>
        <p:spPr>
          <a:xfrm>
            <a:off x="7286760" y="4000680"/>
            <a:ext cx="92844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485640" y="790560"/>
            <a:ext cx="8172720" cy="5276880"/>
          </a:xfrm>
          <a:prstGeom prst="rect">
            <a:avLst/>
          </a:prstGeom>
          <a:ln w="0">
            <a:noFill/>
          </a:ln>
        </p:spPr>
      </p:pic>
      <p:sp>
        <p:nvSpPr>
          <p:cNvPr id="1051" name="矩形 2"/>
          <p:cNvSpPr/>
          <p:nvPr/>
        </p:nvSpPr>
        <p:spPr>
          <a:xfrm>
            <a:off x="3286080" y="3357720"/>
            <a:ext cx="92880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3"/>
          <p:cNvSpPr/>
          <p:nvPr/>
        </p:nvSpPr>
        <p:spPr>
          <a:xfrm>
            <a:off x="5214960" y="3786120"/>
            <a:ext cx="114300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"/>
          <p:cNvSpPr/>
          <p:nvPr/>
        </p:nvSpPr>
        <p:spPr>
          <a:xfrm>
            <a:off x="3751200" y="4740120"/>
            <a:ext cx="928800" cy="311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5"/>
          <p:cNvSpPr/>
          <p:nvPr/>
        </p:nvSpPr>
        <p:spPr>
          <a:xfrm>
            <a:off x="5857920" y="5214960"/>
            <a:ext cx="92880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6"/>
          <p:cNvSpPr/>
          <p:nvPr/>
        </p:nvSpPr>
        <p:spPr>
          <a:xfrm>
            <a:off x="4572000" y="5643720"/>
            <a:ext cx="92880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509760" y="900000"/>
            <a:ext cx="8124480" cy="5058000"/>
          </a:xfrm>
          <a:prstGeom prst="rect">
            <a:avLst/>
          </a:prstGeom>
          <a:ln w="0">
            <a:noFill/>
          </a:ln>
        </p:spPr>
      </p:pic>
      <p:sp>
        <p:nvSpPr>
          <p:cNvPr id="1057" name="矩形 2"/>
          <p:cNvSpPr/>
          <p:nvPr/>
        </p:nvSpPr>
        <p:spPr>
          <a:xfrm>
            <a:off x="2940120" y="965160"/>
            <a:ext cx="928440" cy="312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3"/>
          <p:cNvSpPr/>
          <p:nvPr/>
        </p:nvSpPr>
        <p:spPr>
          <a:xfrm>
            <a:off x="3097080" y="1892160"/>
            <a:ext cx="928800" cy="311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4"/>
          <p:cNvSpPr/>
          <p:nvPr/>
        </p:nvSpPr>
        <p:spPr>
          <a:xfrm>
            <a:off x="1450800" y="2332080"/>
            <a:ext cx="92880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5"/>
          <p:cNvSpPr/>
          <p:nvPr/>
        </p:nvSpPr>
        <p:spPr>
          <a:xfrm>
            <a:off x="1571760" y="2786040"/>
            <a:ext cx="1285920" cy="345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6"/>
          <p:cNvSpPr/>
          <p:nvPr/>
        </p:nvSpPr>
        <p:spPr>
          <a:xfrm>
            <a:off x="7201080" y="3274920"/>
            <a:ext cx="928440" cy="311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32:5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